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28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4.png" ContentType="image/png"/>
  <Override PartName="/ppt/media/image21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0C486-3126-440B-9925-3D0AC41C9F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AF86A-CF4E-4095-A31E-14DE8461A6D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C39E3-C307-473F-9BC6-384EB1D954A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B1076-E19C-440A-8789-4ADEBF95EC4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3362-4ECB-49FE-B7C0-4661E361D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BD09-4185-4C94-8844-38AF38C17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C00B-079D-42B3-875D-7C73A1441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D048-D916-421F-8DE5-2C50D2872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55935-D3D7-4445-8E1D-44C60732A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3DB67-A59A-4E02-A993-3219F9F47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74845-AD7F-44DA-8E9C-04868452E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F61C0-0488-4D85-B658-97E7C6188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6A2F9-814C-47F0-89D9-4F8E06E30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0EBB8-5844-4C2D-BF96-9354903E9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D25F9-F4EB-4315-A2CB-2DFF5834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10E9-C22F-452A-8A19-754F1D506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00EB4-91D5-4D2B-91E0-1DEB6CDE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DF250-4941-43DD-9600-C5EA9A7E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3D7D1-75CC-4F46-AAC8-61BA0E3C4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56A7A-5CB7-4BDE-A3D6-76D670C34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8941E-432C-4C81-A955-C4505BD59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6DCA-8640-42E6-A5F6-E3D5821D4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5F86-94BA-4EBD-B6A9-62C225658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72BA-A14C-4B78-B338-E953A8EDB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1785-3351-48DF-88E8-AB631E1F5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E618-B4E3-4BD3-AACF-CD094EA6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D2B6-9776-4E4D-8CF8-484D0042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228B-DD2F-45D1-A899-D1ED32A3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C002E-B657-404F-B5CD-536DB40EE7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675A-D91F-45A8-B7D7-0BEF84A491F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18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24000" y="0"/>
            <a:ext cx="8820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2728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272880" indent="0" algn="ct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  <a:p>
            <a:pPr marL="2728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1737000" y="838080"/>
            <a:ext cx="575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«Геометрические фигур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 архитектуре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5638680" y="2743200"/>
            <a:ext cx="32767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Авторы проект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Ерофеев Мар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Ученик 11-го клас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4952880" y="5029200"/>
            <a:ext cx="4191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Руководитель  проекта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Карпова Кристина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Ивановн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4052520" y="6248520"/>
            <a:ext cx="156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. Сыктывка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9" descr="1200849"/>
          <p:cNvPicPr/>
          <p:nvPr/>
        </p:nvPicPr>
        <p:blipFill>
          <a:blip r:embed="rId1"/>
          <a:stretch/>
        </p:blipFill>
        <p:spPr>
          <a:xfrm>
            <a:off x="228600" y="2514600"/>
            <a:ext cx="482436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План Исаакиевского собора в Санкт-Петербург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84582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Можно с уверенность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сказать, что в основ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храма лежат квадраты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которые придают ем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стойкости и равновес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4" descr="plan_of_st__isaac27s_cathedral"/>
          <p:cNvPicPr/>
          <p:nvPr/>
        </p:nvPicPr>
        <p:blipFill>
          <a:blip r:embed="rId1"/>
          <a:stretch/>
        </p:blipFill>
        <p:spPr>
          <a:xfrm>
            <a:off x="0" y="1700280"/>
            <a:ext cx="4608360" cy="411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356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ри построении ег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ытянутого ввер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купола использовалас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такая фигура, как цилин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3" descr="f_7053623"/>
          <p:cNvPicPr/>
          <p:nvPr/>
        </p:nvPicPr>
        <p:blipFill>
          <a:blip r:embed="rId1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5435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ри построен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русских церкв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шатрового стил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архитекторы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несомненно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рименяли фигуры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рямоугольны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араллелепипеды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цилиндры, конусы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ирамиды и друг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3" descr="080124182808"/>
          <p:cNvPicPr/>
          <p:nvPr/>
        </p:nvPicPr>
        <p:blipFill>
          <a:blip r:embed="rId1"/>
          <a:stretch/>
        </p:blipFill>
        <p:spPr>
          <a:xfrm>
            <a:off x="0" y="0"/>
            <a:ext cx="5435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648320" y="1066320"/>
            <a:ext cx="4495680" cy="70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Базовая часть здания представляет собой невыпуклую прямую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ризму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. Призма является невыпуклой, благодаря  выступам, которые заполнены вертикальными рядами окон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3" descr="klub_rusakova1"/>
          <p:cNvPicPr/>
          <p:nvPr/>
        </p:nvPicPr>
        <p:blipFill>
          <a:blip r:embed="rId1"/>
          <a:stretch/>
        </p:blipFill>
        <p:spPr>
          <a:xfrm>
            <a:off x="0" y="1219320"/>
            <a:ext cx="4648320" cy="324792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4"/>
          <p:cNvSpPr/>
          <p:nvPr/>
        </p:nvSpPr>
        <p:spPr>
          <a:xfrm>
            <a:off x="0" y="4952880"/>
            <a:ext cx="472428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здание клуба имени И.В.Русакова в Москве. Это здание построено в 1929 г. по проекту архитектора К.Мельникова.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038480" y="152280"/>
            <a:ext cx="51055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Некоторые архитектурные сооружения имеют довольно простую форму. Например, башня с часами, которая является обязательным атрибутом любого американского университета. Она имеет форму прямой четырехугольной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ризмы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, которую еще называют прямоугольным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араллелепипедом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3" descr="bashn_chas11"/>
          <p:cNvPicPr/>
          <p:nvPr/>
        </p:nvPicPr>
        <p:blipFill>
          <a:blip r:embed="rId1"/>
          <a:stretch/>
        </p:blipFill>
        <p:spPr>
          <a:xfrm>
            <a:off x="0" y="0"/>
            <a:ext cx="44388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3886200" y="152280"/>
            <a:ext cx="51055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Но чаще всего в архитектурном сооружении сочетаются различные геометрические фигуры. Например, в Спасской башне Московского кремля в основании можно увидеть прямой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араллелепипед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, переходящий в средней части в фигуру, приближающуюся к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цилиндру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, завершается же она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ирамидой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3" descr="1781494"/>
          <p:cNvPicPr/>
          <p:nvPr/>
        </p:nvPicPr>
        <p:blipFill>
          <a:blip r:embed="rId1"/>
          <a:srcRect l="17812" t="1772" r="0" b="0"/>
          <a:stretch/>
        </p:blipFill>
        <p:spPr>
          <a:xfrm>
            <a:off x="0" y="0"/>
            <a:ext cx="3997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1128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Теперь, подкрепив примерами утверждение, можно с уверенностью сказать, что Геометрические фигуры – ОСНОВА АРХИТЕКТУР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3" descr="7656603"/>
          <p:cNvPicPr/>
          <p:nvPr/>
        </p:nvPicPr>
        <p:blipFill>
          <a:blip r:embed="rId1"/>
          <a:stretch/>
        </p:blipFill>
        <p:spPr>
          <a:xfrm>
            <a:off x="5796000" y="4114800"/>
            <a:ext cx="3348000" cy="25160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132196"/>
          <p:cNvPicPr/>
          <p:nvPr/>
        </p:nvPicPr>
        <p:blipFill>
          <a:blip r:embed="rId2"/>
          <a:stretch/>
        </p:blipFill>
        <p:spPr>
          <a:xfrm>
            <a:off x="0" y="2133720"/>
            <a:ext cx="3492360" cy="26208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324183_25"/>
          <p:cNvPicPr/>
          <p:nvPr/>
        </p:nvPicPr>
        <p:blipFill>
          <a:blip r:embed="rId3"/>
          <a:stretch/>
        </p:blipFill>
        <p:spPr>
          <a:xfrm>
            <a:off x="2050920" y="4508640"/>
            <a:ext cx="2935440" cy="23493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080124182808"/>
          <p:cNvPicPr/>
          <p:nvPr/>
        </p:nvPicPr>
        <p:blipFill>
          <a:blip r:embed="rId4"/>
          <a:stretch/>
        </p:blipFill>
        <p:spPr>
          <a:xfrm>
            <a:off x="4114800" y="1981080"/>
            <a:ext cx="3117960" cy="237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1235116856_1235030663_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Box 2"/>
          <p:cNvSpPr/>
          <p:nvPr/>
        </p:nvSpPr>
        <p:spPr>
          <a:xfrm>
            <a:off x="1066680" y="380880"/>
            <a:ext cx="7391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Есть ли геометрические фигуры в архитектуре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39280" y="-360"/>
            <a:ext cx="82090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В основе любого архитектурного сооружения лежат геометрические фигуры и тел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3" descr="400px-Hexahedron"/>
          <p:cNvPicPr/>
          <p:nvPr/>
        </p:nvPicPr>
        <p:blipFill>
          <a:blip r:embed="rId1"/>
          <a:stretch/>
        </p:blipFill>
        <p:spPr>
          <a:xfrm>
            <a:off x="0" y="1828800"/>
            <a:ext cx="3043080" cy="3384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20070921021819"/>
          <p:cNvPicPr/>
          <p:nvPr/>
        </p:nvPicPr>
        <p:blipFill>
          <a:blip r:embed="rId2"/>
          <a:stretch/>
        </p:blipFill>
        <p:spPr>
          <a:xfrm>
            <a:off x="2819520" y="3976560"/>
            <a:ext cx="2881080" cy="2881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image11271"/>
          <p:cNvPicPr/>
          <p:nvPr/>
        </p:nvPicPr>
        <p:blipFill>
          <a:blip r:embed="rId3"/>
          <a:stretch/>
        </p:blipFill>
        <p:spPr>
          <a:xfrm>
            <a:off x="5791320" y="1752480"/>
            <a:ext cx="3063600" cy="3063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1685"/>
          <p:cNvPicPr/>
          <p:nvPr/>
        </p:nvPicPr>
        <p:blipFill>
          <a:blip r:embed="rId4"/>
          <a:stretch/>
        </p:blipFill>
        <p:spPr>
          <a:xfrm>
            <a:off x="5486400" y="4529160"/>
            <a:ext cx="3492360" cy="23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123563529380f9"/>
          <p:cNvPicPr/>
          <p:nvPr/>
        </p:nvPicPr>
        <p:blipFill>
          <a:blip r:embed="rId1"/>
          <a:stretch/>
        </p:blipFill>
        <p:spPr>
          <a:xfrm>
            <a:off x="3467160" y="0"/>
            <a:ext cx="5676840" cy="40006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-360" y="0"/>
            <a:ext cx="35053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 названии усыпальниц египетских фараонов используется назв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4" descr="5"/>
          <p:cNvPicPr/>
          <p:nvPr/>
        </p:nvPicPr>
        <p:blipFill>
          <a:blip r:embed="rId2"/>
          <a:srcRect l="0" t="0" r="0" b="9791"/>
          <a:stretch/>
        </p:blipFill>
        <p:spPr>
          <a:xfrm>
            <a:off x="0" y="3541680"/>
            <a:ext cx="5524560" cy="331632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5"/>
          <p:cNvSpPr/>
          <p:nvPr/>
        </p:nvSpPr>
        <p:spPr>
          <a:xfrm>
            <a:off x="5334120" y="4114800"/>
            <a:ext cx="3809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ространствен-ной геометрической фигуры –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ирамиды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4343040" y="685800"/>
            <a:ext cx="4800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Анализ египетских пирамид показывает, что египтяне всегда стремились воплотить в своих пирамидах некоторые важные математические знания. В этом отношении весьма интересной является пирамида Хефрена. Измерения пирамиды показали, что угол наклона боковых граней в ней равен 53°12', что отвечает отношению катетов прямоугольного треугольника 4:3. Такое отношение катетов соответствует хорошо известному прямоугольному треугольнику со сторонами 3:4:5, который называют "совершенным", "священным" или "египетским" треугольнико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2" descr="E:\Documents\Катя\eg101207-7.jpg"/>
          <p:cNvPicPr/>
          <p:nvPr/>
        </p:nvPicPr>
        <p:blipFill>
          <a:blip r:embed="rId1"/>
          <a:stretch/>
        </p:blipFill>
        <p:spPr>
          <a:xfrm>
            <a:off x="0" y="225360"/>
            <a:ext cx="4389480" cy="35416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http://gazpromschool.by.ru/projects/geometry/tr/images/tr113_2a1.gif"/>
          <p:cNvPicPr/>
          <p:nvPr/>
        </p:nvPicPr>
        <p:blipFill>
          <a:blip r:embed="rId2"/>
          <a:stretch/>
        </p:blipFill>
        <p:spPr>
          <a:xfrm>
            <a:off x="1219320" y="3352680"/>
            <a:ext cx="3578040" cy="32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Геометрические фигуры окружают нас постоянно в обычной жизни, а знание их свойств облегчает человеку его существов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се геометрические формы «ладят» друг с другом.  Здания строятся в определённом порядке. Архитектор строго учитывает их формы при проектировании горо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724280" y="990720"/>
            <a:ext cx="3889440" cy="41320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PH02053J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4724280" y="914400"/>
            <a:ext cx="41767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Эрмитаж в Петербург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4" descr="StPeter-symniy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5257800" y="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 этом здан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реобладают четк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линии и прямые углы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что очень схож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с такой фигурой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как прямоугольны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араллепипе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3" descr="zimniy"/>
          <p:cNvPicPr/>
          <p:nvPr/>
        </p:nvPicPr>
        <p:blipFill>
          <a:blip r:embed="rId1"/>
          <a:stretch/>
        </p:blipFill>
        <p:spPr>
          <a:xfrm>
            <a:off x="0" y="0"/>
            <a:ext cx="5219640" cy="39146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324183_25"/>
          <p:cNvPicPr/>
          <p:nvPr/>
        </p:nvPicPr>
        <p:blipFill>
          <a:blip r:embed="rId2"/>
          <a:stretch/>
        </p:blipFill>
        <p:spPr>
          <a:xfrm>
            <a:off x="5219640" y="4006800"/>
            <a:ext cx="3924360" cy="28512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zimniy_dvorec_1"/>
          <p:cNvPicPr/>
          <p:nvPr/>
        </p:nvPicPr>
        <p:blipFill>
          <a:blip r:embed="rId3"/>
          <a:stretch/>
        </p:blipFill>
        <p:spPr>
          <a:xfrm>
            <a:off x="0" y="3719520"/>
            <a:ext cx="5364000" cy="31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528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Исаакиевский собо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693432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4" descr="1938"/>
          <p:cNvPicPr/>
          <p:nvPr/>
        </p:nvPicPr>
        <p:blipFill>
          <a:blip r:embed="rId1"/>
          <a:stretch/>
        </p:blipFill>
        <p:spPr>
          <a:xfrm>
            <a:off x="468360" y="493560"/>
            <a:ext cx="8028000" cy="6364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imon</cp:lastModifiedBy>
  <dcterms:modified xsi:type="dcterms:W3CDTF">2010-05-28T12:15:38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